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jpeg" ContentType="image/jpeg"/>
  <Override PartName="/ppt/media/image5.gif" ContentType="image/gif"/>
  <Override PartName="/ppt/media/image8.wmf" ContentType="image/x-wmf"/>
  <Override PartName="/ppt/media/image7.gif" ContentType="image/gif"/>
  <Override PartName="/ppt/media/image9.wmf" ContentType="image/x-wmf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BEC1-62C1-4443-9D46-A0F55FD99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AC2B-2216-4AE9-AFB1-1563C4AF3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3706-3DA7-4896-8986-D9C1C8855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0745-0EA9-4DCA-BFE7-1EB730864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B47B-8F77-402E-887B-B01812810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EF78-C963-4F06-B893-DB17566D2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8670-5A5B-457A-8C53-7655A68EC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1326-3576-4BBC-AA6D-313DE2B05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292F-FE29-4FC3-9B8A-44575AFA8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70F5-4D35-4789-AC36-82F3EFE3B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CE9F-CC32-4752-A2AE-4DA923860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33DD-3A74-45AC-8B78-6F8E35CC8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2791-98AC-47D2-AD81-45DC06181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850B-ABB0-4899-9FCA-35711F6B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33A2-A411-49C7-BB19-3BA4349C1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446-819B-4F9E-9319-9FD800DD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F14-248C-4CA3-BBED-6F64D795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5A5-C70B-47DE-8C13-47DFDFB9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C31-0AE1-4C35-8555-D85A2B12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A21-068D-41FC-84F3-A27F223A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B7B-B38D-413A-A10C-C303403A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8C7-AB28-4BD6-A9B9-BF5BFED2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BF9-1428-4A14-A03E-5387A456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0EF-A3B9-48F3-961F-F4C4D8EE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3C9-180C-40E4-831C-118B6FB8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FED-1140-4574-BDF2-7202FD36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D0D-EC27-439C-904D-008DFD00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E008-E407-4094-822C-08ADA3C7F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onal L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343347"/>
          <p:cNvPicPr/>
          <p:nvPr/>
        </p:nvPicPr>
        <p:blipFill>
          <a:blip r:embed="rId1"/>
          <a:stretch/>
        </p:blipFill>
        <p:spPr>
          <a:xfrm>
            <a:off x="2743200" y="152280"/>
            <a:ext cx="37339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of R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le and Wi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boss informed of t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s on one’s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s the good, bad, and the u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effective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to high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0215538"/>
          <p:cNvPicPr/>
          <p:nvPr/>
        </p:nvPicPr>
        <p:blipFill>
          <a:blip r:embed="rId1"/>
          <a:stretch/>
        </p:blipFill>
        <p:spPr>
          <a:xfrm>
            <a:off x="5334120" y="1905120"/>
            <a:ext cx="243828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~AUT0001"/>
          <p:cNvPicPr/>
          <p:nvPr/>
        </p:nvPicPr>
        <p:blipFill>
          <a:blip r:embed="rId1"/>
          <a:stretch/>
        </p:blipFill>
        <p:spPr>
          <a:xfrm>
            <a:off x="533520" y="0"/>
            <a:ext cx="788976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Appropriat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want to accomp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adiness le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ction to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leadership interven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follow-up is requi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j0234461"/>
          <p:cNvPicPr/>
          <p:nvPr/>
        </p:nvPicPr>
        <p:blipFill>
          <a:blip r:embed="rId1"/>
          <a:stretch/>
        </p:blipFill>
        <p:spPr>
          <a:xfrm>
            <a:off x="5715000" y="1600200"/>
            <a:ext cx="2438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one best way to influenc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ership style depends on the readiness level of the followers the leader is attempting to influ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ne style is effective in any/or all sit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j0234082"/>
          <p:cNvPicPr/>
          <p:nvPr/>
        </p:nvPicPr>
        <p:blipFill>
          <a:blip r:embed="rId1"/>
          <a:stretch/>
        </p:blipFill>
        <p:spPr>
          <a:xfrm>
            <a:off x="5264280" y="1924200"/>
            <a:ext cx="28051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uational leadership is then based on an interplay among:</a:t>
            </a:r>
            <a:br>
              <a:rPr sz="28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guidance a leader g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socio-emotional support provided by the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ess level that followers exhibit in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concept was developed to help leaders in various roles become more effective in their interactions with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hip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CONCEPT OF SITUATIONAL LEADERS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ONS INCLUD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Behavior- Leader Spells out the duties and responsibilities of the group or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Behavior- Leader engages in two-way or multiway commun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0233018"/>
          <p:cNvPicPr/>
          <p:nvPr/>
        </p:nvPicPr>
        <p:blipFill>
          <a:blip r:embed="rId1"/>
          <a:stretch/>
        </p:blipFill>
        <p:spPr>
          <a:xfrm>
            <a:off x="5791320" y="2057400"/>
            <a:ext cx="28954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Leadership Sty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-High Task/Low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-High Task/High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3-High Relationship/Low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4-Low Relationship/Low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” indicates above-average amounts of the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” indicates below-average amounts of the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j0286667"/>
          <p:cNvPicPr/>
          <p:nvPr/>
        </p:nvPicPr>
        <p:blipFill>
          <a:blip r:embed="rId1"/>
          <a:stretch/>
        </p:blipFill>
        <p:spPr>
          <a:xfrm>
            <a:off x="6248520" y="1676520"/>
            <a:ext cx="17524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Factors Which Influence Effective Lead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Assoc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ollow"/>
          <p:cNvPicPr/>
          <p:nvPr/>
        </p:nvPicPr>
        <p:blipFill>
          <a:blip r:embed="rId1"/>
          <a:stretch/>
        </p:blipFill>
        <p:spPr>
          <a:xfrm>
            <a:off x="4343400" y="1676520"/>
            <a:ext cx="408636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066680" y="56386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Self-Fulfilling Prophecy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nents of Readine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ility and Willing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-understanding of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-proficiency of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-demonstration of ability, while performing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-demonstration of assurance of perform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ment-duty of performing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-desire to perform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Readiness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1-Unable and un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2-Unable but 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3-Able but un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4-Able and 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j0284133"/>
          <p:cNvPicPr/>
          <p:nvPr/>
        </p:nvPicPr>
        <p:blipFill>
          <a:blip r:embed="rId1"/>
          <a:stretch/>
        </p:blipFill>
        <p:spPr>
          <a:xfrm>
            <a:off x="5410080" y="2971800"/>
            <a:ext cx="2743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of R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Unable and Unwill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orming tasks or acceptabl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imid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lear about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ra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in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or passing the b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sive of uncomf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j0078730"/>
          <p:cNvPicPr/>
          <p:nvPr/>
        </p:nvPicPr>
        <p:blipFill>
          <a:blip r:embed="rId1"/>
          <a:stretch/>
        </p:blipFill>
        <p:spPr>
          <a:xfrm>
            <a:off x="5361120" y="1828800"/>
            <a:ext cx="218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of R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ble but will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xious or exc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ed and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 moderate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ve to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husi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0" descr="j0234686"/>
          <p:cNvPicPr/>
          <p:nvPr/>
        </p:nvPicPr>
        <p:blipFill>
          <a:blip r:embed="rId1"/>
          <a:stretch/>
        </p:blipFill>
        <p:spPr>
          <a:xfrm>
            <a:off x="5562720" y="2438280"/>
            <a:ext cx="2361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of R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le but Unwi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of ability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sitant to finish or move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whelmed, scared, or con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uctant to perform s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surance ofte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j0232100"/>
          <p:cNvPicPr/>
          <p:nvPr/>
        </p:nvPicPr>
        <p:blipFill>
          <a:blip r:embed="rId1"/>
          <a:stretch/>
        </p:blipFill>
        <p:spPr>
          <a:xfrm>
            <a:off x="5715000" y="1752480"/>
            <a:ext cx="14493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1:37:38Z</dcterms:created>
  <dc:creator> </dc:creator>
  <dc:description/>
  <dc:language>en-US</dc:language>
  <cp:lastModifiedBy>AEURY</cp:lastModifiedBy>
  <dcterms:modified xsi:type="dcterms:W3CDTF">2009-10-12T16:21:07Z</dcterms:modified>
  <cp:revision>15</cp:revision>
  <dc:subject/>
  <dc:title>Chapter 8 Situational Leadership</dc:title>
</cp:coreProperties>
</file>